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3834-AB06-44BB-9D8F-8567CF08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480F-E117-4D73-A31C-A591AE8F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3BC7-FC6B-4100-A1FD-ABB1D479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97AC-97D9-4234-A2B0-BC2821E2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023E-6A4C-46E1-9379-C3E81F34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F9F7-343D-4BD9-91FC-A34BEEB5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023E-5C4E-4800-B139-6185D69B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36A4-BF39-45EF-B9EE-932D207E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410E-1918-47D9-A5C1-82801A7C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BEE-16E9-471C-A5B6-94B6C99D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CFE-3694-44F9-A253-5712DA65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F76-8BB1-4DD2-AF1E-E01E9E8A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5C8D-BE0A-429E-8153-84E264A9C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08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08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08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08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08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08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08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08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08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08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08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11:24:10Z</dcterms:created>
  <dc:creator>iñigo</dc:creator>
  <dc:description/>
  <dc:language>en-US</dc:language>
  <cp:lastModifiedBy>iñigo</cp:lastModifiedBy>
  <dcterms:modified xsi:type="dcterms:W3CDTF">2001-04-23T11:24:17Z</dcterms:modified>
  <cp:revision>1</cp:revision>
  <dc:subject/>
  <dc:title>Presentación de PowerPoint</dc:title>
</cp:coreProperties>
</file>